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201-0F98-4F80-811E-701E2B53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D4A-8D37-468A-ACFB-319730D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77C-30EB-4AED-AD05-64C3A888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2E9-DEFA-4FA0-BB32-DB03CC2F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6F872-1762-4EFF-B210-C3597C52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36E5-7255-4845-AE22-238CBF9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9E3E-619E-4ABD-B4EB-08F4315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D18B-EEE3-47BD-9264-AB663C0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C2A36-44E0-461B-99A7-03E3457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2C370-7A09-4DF3-A8A5-C40EA28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0F2CE-980C-46FC-92DA-871E796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B35-4998-48FA-8CCF-5AEFAF7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7DA42-ABCE-4975-B1FE-E027811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84175-5AE8-48A0-A85C-0786852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7004C-3955-478C-9EB1-7D774A7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5426-CFBC-4746-8FCF-DD17E98A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6750A-DCDA-46AF-9CF2-8F4D6A9B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518-A605-43E5-82AA-D52DDB29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836-7483-4C88-8B12-215AC73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722-677F-42E7-83C9-382BA1EF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C3C-6808-4BF7-A751-DAE2BB31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78A-1492-48E7-9F36-23117C6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EDD-1454-4692-8884-13B5B0D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612-EFC5-4B68-A2F6-6D4018AB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C99-5E71-42B4-8191-852691E42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14D-F8B6-46DF-A55B-4C7DAFA8A0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Obliczenia  na  liczbach  wymiernych  do  rozwiązywania  problemów   w kontekście   praktycznym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44193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Warszawie (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 jest godzina 11:00 czasu słonecznego. Oblicz czas słoneczny w tym samym momencie w Moskwie (3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760" y="327744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0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620120" cy="10666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ługość geograficzna obu miejscowości jest pod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nawias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ykonujemy rysunek pomocnicz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5105160"/>
            <a:ext cx="7162560" cy="685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Moskwie jest godzina  12.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219320"/>
            <a:ext cx="5263920" cy="3948120"/>
            <a:chOff x="685800" y="1219320"/>
            <a:chExt cx="5263920" cy="3948120"/>
          </a:xfrm>
        </p:grpSpPr>
        <p:sp>
          <p:nvSpPr>
            <p:cNvPr id="167" name=""/>
            <p:cNvSpPr/>
            <p:nvPr/>
          </p:nvSpPr>
          <p:spPr>
            <a:xfrm>
              <a:off x="685800" y="1219320"/>
              <a:ext cx="5263920" cy="39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789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6312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5080" y="2388960"/>
              <a:ext cx="720" cy="14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8120" y="4436280"/>
              <a:ext cx="4093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803960"/>
              <a:ext cx="4093920" cy="438480"/>
            </a:xfrm>
            <a:prstGeom prst="rect">
              <a:avLst/>
            </a:prstGeom>
            <a:solidFill>
              <a:srgbClr val="46341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  21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                   37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6600" y="2973960"/>
              <a:ext cx="73080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: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3920" y="3851280"/>
              <a:ext cx="2778120" cy="438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rszawa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skw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9920" y="2209680"/>
            <a:ext cx="2819160" cy="1981440"/>
          </a:xfrm>
          <a:prstGeom prst="rect">
            <a:avLst/>
          </a:prstGeom>
          <a:solidFill>
            <a:srgbClr val="00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4min = 64minuty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h i 4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ematyka w prakt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7" name="irc_mi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81360" cy="3886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litr benzyny dorzuca do atmosfery 2,34 kg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dwutlenku węgla). Ile 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w ciągu tygodnia dorzuci do atmosfery kierowca, który przez pięć dni w tygodniu dojeżdża do pracy samochodem, pokonując trasę 50 km dziennie przy średnim zużyciu paliwa 14 litrów na 100 k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19884000">
            <a:off x="6400440" y="411444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19051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litrów na 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litrów na 5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litrów paliwa spali w ciągu 5 d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itr dorzuca 2,34 kg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litrów dorzuci do atmosf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5 x 2,34 kg = 81,9 kg 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257800"/>
            <a:ext cx="8382240" cy="510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z kierowca dorzuci do atmosfery około 82 k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33360" cy="20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 Kowalski ma dokonać opłaty za mieszkanie w kwocie 256,54 zł, za telefon 97,76 zł oraz energię elektryczną 56,20 zł. Ma do dyspozycji 500 zł. Czy wystarczy mu pieniędzy na te opłaty? Jeśli tak, to ile otrzyma resz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59092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8720" y="304920"/>
            <a:ext cx="936360" cy="111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307280" y="4343400"/>
            <a:ext cx="1601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752480"/>
            <a:ext cx="152388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,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6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752480"/>
            <a:ext cx="25905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0,50 &lt;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343400"/>
            <a:ext cx="7543800" cy="11430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dpowied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 te opłaty wystarczy je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iędzy, otrzyma nawet 89,50 zł. resz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819520"/>
            <a:ext cx="3543120" cy="102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- 410,50 = 89,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43760" y="152280"/>
            <a:ext cx="1976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czas pobytu nad jeziorem Tomek wypożyczy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jak w wypożyczalni A, a Maciek – w wypożyczalni 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óra z ofert jest korzystniejsza, jeśli chce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pożyczyć kajak na 2 godziny, a która – jeśli n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z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86200"/>
            <a:ext cx="2438640" cy="1676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3886200"/>
            <a:ext cx="2438640" cy="16765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3911760"/>
        </p:xfrm>
        <a:graphic>
          <a:graphicData uri="http://schemas.openxmlformats.org/drawingml/2006/table">
            <a:tbl>
              <a:tblPr/>
              <a:tblGrid>
                <a:gridCol w="914400"/>
                <a:gridCol w="3581280"/>
                <a:gridCol w="3733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YPOŻYCZALNIA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zł+2x3=15zł+6zł=21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zł+2x4=12zł+8zł=2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5zł+5x3=15zł+15zł=30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2zł+5x4=12+20=32z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762120" y="5257800"/>
            <a:ext cx="7467480" cy="80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chcemy wypożyczyć kajak na 2h korzystniejsza jest oferta wypożyczalni B, jeśli na 5h oferta wypożyczalni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5 zł i dodatkowo 3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228600"/>
            <a:ext cx="2438280" cy="12952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WYPOŻYCZALNIA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ena wypożyczenia kajaka: 12 zł i dodatkowo 4 zł za każdą godzinę używan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a kupiła dwie puszki groszku, każda po 3,50 zł za puszkę, oraz 3 paczki kawy. Za wszystko zapłaciła 67,60 zł. Ile kosztowała paczka kaw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43800" y="32767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137160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Zadania, które tutaj przedstawiam mają na celu pokazanie  jak ważna jest umiejętność wykorzystania wiedzy z matematyki w różnych sytuacjach praktycznych, wcale niewyszukanych, ale takich zwyczajnych, z którymi możemy spotkać się w życiu codziennym. Wiedza matematyczna nie jest oderwana od rzeczywistości, towarzyszy nam często bez względu czy mamy na to ochotę czy ni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50 x 2=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,60 - 7=60,6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,60 : 3=20,20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zka kawy kosztowała 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jdroższa naklejka w sklepie kosztuje              o 1,7 zł więcej niż najtańsza, a na zakup obu trzeba wydać 2,4 zł. Ile kosztuje najdroższa naklejka w tym sklepi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związ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-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: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+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648320"/>
            <a:ext cx="80010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jdroższa naklejka w tym sklepie koszt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,20 z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3962520" cy="2362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4 - 1,7 = 0,7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7 : 2 = 0,3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,35 + 1,7 = 2,05 z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 dla chętny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biornik o pojemności  238 hl jest napełniany wodą z dwóch kranów.                  Z pierwszego woda wypływa z prędkością  200 l/h a z drugiego z prędkością 25 l/min   Ile czasu potrzeba na napełnienie tego zbiornik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Plik:Liczby kropla.gif"/>
          <p:cNvPicPr/>
          <p:nvPr/>
        </p:nvPicPr>
        <p:blipFill>
          <a:blip r:embed="rId1"/>
          <a:stretch/>
        </p:blipFill>
        <p:spPr>
          <a:xfrm>
            <a:off x="7162920" y="426708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Matematyka jest delikatnym kwiatem, który rośnie nie na każdej glebie i zakwita nie wiadomo kiedy i jak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                                          </a:t>
            </a:r>
            <a:r>
              <a:rPr b="0" lang="pl-PL" sz="3200" spc="-1" strike="noStrike">
                <a:solidFill>
                  <a:srgbClr val="ff3300"/>
                </a:solidFill>
                <a:latin typeface="Arial"/>
              </a:rPr>
              <a:t>(Jean Fab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5410080" y="2819520"/>
            <a:ext cx="23968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tematyka jest delikatnym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wiatem, który rośnie nie n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ażdej gleb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 zakwita nie wiadomo kiedy i jak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(Jean Fabre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66880" y="2743200"/>
            <a:ext cx="29480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ONIE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chem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sanie równań reakcji chemicznych jest kluczową umiejętnością w nauce chemii, należy znać symbole pierwiastków, wartościowości, pisać poprawnie wzory związków chemicznych oraz uzgadniać strony reakcji. Uzgadnianie stron reakcji  wiąże się  z dobieraniem  współczynników stechiometrycznych czyli cyfr dzięki, którym jedna strona równania reakcji równa się drugiej stronie równ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pisz równania reakcji chemicznych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ód + woda → wodorotlenek sodu + wodór w postaci gaz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523240"/>
            <a:ext cx="5410080" cy="130356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Na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→   NaOH +  0,5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        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2 Na + 2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463416"/>
                </a:solidFill>
                <a:latin typeface="Arial"/>
              </a:rPr>
              <a:t>O →  2NaOH +  H</a:t>
            </a:r>
            <a:r>
              <a:rPr b="1" lang="pl-PL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966120"/>
            <a:ext cx="8229600" cy="581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lenek węgla (II) + tlen → tlenek węgla (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462920"/>
            <a:ext cx="6629400" cy="1266120"/>
          </a:xfrm>
          <a:prstGeom prst="rect">
            <a:avLst/>
          </a:prstGeom>
          <a:solidFill>
            <a:srgbClr val="e3e3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 + 0,5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/ *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2 CO + 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→  2CO</a:t>
            </a:r>
            <a:r>
              <a:rPr b="1" lang="en-US" sz="1800" spc="-1" strike="noStrike" baseline="-25000">
                <a:solidFill>
                  <a:srgbClr val="46341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fizyce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ędkość, droga i gęstość to umiejętności fizyczne, które możemy zrozumieć dzięki wiadomościom nabytym               w czasie lekcji matematyk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y znamy gęstość ciała możemy oszacować jego masę, której bezpośrednio nie możemy zmierzyć. Gęstość to iloraz masy ciała m przez jego objętość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Wzór na g&amp;eogon;sto&amp;sacute;&amp;cacute;"/>
          <p:cNvPicPr/>
          <p:nvPr/>
        </p:nvPicPr>
        <p:blipFill>
          <a:blip r:embed="rId1"/>
          <a:stretch/>
        </p:blipFill>
        <p:spPr>
          <a:xfrm>
            <a:off x="3505320" y="4305240"/>
            <a:ext cx="1743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ętość benzyny  wynosi około 24,3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3429000"/>
                <a:ext cx="50292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0,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09480" y="17524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cz objętość benzyny jeżeli jej masa wynosi 17g, a gęstość 0,7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rusza się z prędkości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5 cm/s. W jakim czasie pokona on 250 c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429000"/>
            <a:ext cx="50292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cm : 12,5 cm = 20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614680" cy="17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szybszy żółw pokona tę drogę w czasie 20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Zadan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licz prędkość rowerzysty, który przebył drogę 600 dm w czasie 5 minut. Wynik podaj w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657600"/>
            <a:ext cx="2133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00 dm = 6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 min = 300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86200" y="3657600"/>
                <a:ext cx="358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38080" y="4952880"/>
            <a:ext cx="7620120" cy="106704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rzysta jechał z prędkością  0,02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924680" y="3581280"/>
                <a:ext cx="106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og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z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24680" y="2286000"/>
            <a:ext cx="10494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 geografii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828800"/>
            <a:ext cx="82296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ługiwanie się czasem słonecznym to umiejętność             w nauce geografii. Pełen obrót trwa w przybliżeniu              24 godziny. Oznacza to, że na obrót o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Ziemia potrzebuje 4 minut. Ponieważ Ziemia obraca się                            z zachodu na wschód, na zachód od miejscowości A jest godzina wcześniejsza, na wschód późniejs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r Emilia Pawłowska nauczyciel        w Gimnazjum nr 2 we Włocław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pracowała: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atyka</cp:lastModifiedBy>
  <dcterms:modified xsi:type="dcterms:W3CDTF">2013-05-10T19:43:1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